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E1F-2384-4A1F-A66D-AABFC314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3AC-50E2-40AF-921B-1833A37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D79-B70E-41AF-80F5-A86D3236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45A-178D-4FB7-ADB4-4C95190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DA0E-4F9F-4C1C-BB5C-C9372232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FC6F-973C-43DE-A76F-6383E45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E3F-2A70-426B-9AF0-67B798A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153A-6BF0-4357-B5D3-0DA91B15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BC32-B1BD-457F-B68D-2C95D5AC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521D-8909-4504-92B4-1DDFBD6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CAC-6069-459B-ACC0-E9B1084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352-D264-4948-9A28-1FAA4884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3DC-9C24-487B-9F58-D11C134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171C-E042-4A95-8D70-E08E92F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031C-7845-4CAD-A146-DE7479D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50CD-571D-430F-8EBE-4D3DF634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1C44-FFB7-4391-BF7B-F3C7C4B5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C67-1499-415F-A13D-9D98B46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B2C-8F1F-4FFC-81FA-2C4200C5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0DF-30EC-4059-B426-46402C2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9CB-6EB2-4FF8-ABC6-81FB25C6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BC5-BD81-4EFF-B732-00431188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4E2-BCAC-483A-A0C2-DFBB6BF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C84-FAC2-48EF-80AC-68D7797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B99-47BF-4701-8AC3-11E65DE94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C9D8-8EAC-4687-83BF-B97EDF5A6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18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ive Us A King “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1-9, Pages 176-18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1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urposes of the Proverbs (1-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shun evil counsel (10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all of wisdom (20-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onsequences of not listening to wisdom (24-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2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wisdom (1-11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 will deliver one from the evil man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12-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 will deliver one from the immoral woman (16-2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3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idance for the young 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seeking the Lord (1-1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wisdom (13-26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’s “do not” list (27-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4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author remembers the instructions of his father (1-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rasts between wisdom and the ways of evil (10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 attention to instruction (20-27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ware of the seductions of the immoral woman (1-1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y with your wife and enjoy love (15-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sees all iniquities (21-23)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6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et out of bad promises (1-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lly of the sluggard (6-11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ributes of a worthless person (12-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abominations of the Lord (16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urther instructions to beware of adultery (20-3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7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 the lures and snares of the crafty harlot (1-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dangers of falling by following the wicked woman (24-27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8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xcellence of wisd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cries out to fools and the simple (1-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promises many gifts (12-2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helped create the world (22-3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blesses a man (32-3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are invited to come to the way of wisdom (1-6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reaction of the foolish and the wise to correction (7-1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olish woman is described (13-18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roverb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condensed (short and concise) wisdom gleaned from years of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ments of wisdom guided by the Holy Spirit to include for all men of all generation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se have the fear of the Lord as their solid foundation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lomon spoke 3,000 proverbs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1 Kings 4:3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urpos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know wisdom and instr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discern the words of understan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receive instruction in the “whys and wherefores” of righteous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prudence to the si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the “wise man” learning and understanding in sound rules of conduct and managing the affairs of l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fool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fuses instru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recognize obvious “pitfalls” in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learn from his mistak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jects correction from the wi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jects the way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simple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pically, a young man without experience and without knowledge (ignorant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not learned lessons from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ks in learning from the experience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ïve in trusting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wisdom” -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bility to live a godly life in an ungodly 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fear of the Lord is the beginning of knowledge” (1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fear of the Lord is the beginning of wisdom” (9:1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e need to pray for wisdom (James 1: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the “wise man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pically, an older man with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learned lessons from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s from his own mistakes and those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s from the experience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s the “pitfalls” the simple fall in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s wisdom from the fear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lin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atherly instructo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-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verbs of Solomon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0-2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of Solomon, copied by the men of King Hezekia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s 25-2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Agu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King Lemuel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1-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ice from a father to a son (also includes advice to daughter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rents have responsibility to teac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people have responsibility to listen and to give heed to the ad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structions on principles of life, including one’s responsibilities to Go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1:05:02Z</dcterms:created>
  <dc:creator>Don Vines</dc:creator>
  <dc:description/>
  <dc:language>en-US</dc:language>
  <cp:lastModifiedBy>Frank D Vines</cp:lastModifiedBy>
  <dcterms:modified xsi:type="dcterms:W3CDTF">2005-09-11T13:13:37Z</dcterms:modified>
  <cp:revision>12</cp:revision>
  <dc:subject/>
  <dc:title>Proverbs</dc:title>
</cp:coreProperties>
</file>